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A5A7-93E2-4BFD-B069-8E43016DB012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6BDE-BC8C-4CEC-8C95-6DBDAAD0DBD0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410C-1911-46C4-8DF9-61CABB62E4B9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900-7C81-4754-8F8C-54AFE28C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B21-B1D4-44DF-B4CD-30147A75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CD8-E8FE-4B8C-81B4-78ECF72B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A2A-EDA2-4A57-9989-53054353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078-DC50-43BA-9FAE-96701428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EBA-5A49-4BAE-BBAE-6BC88B08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B0C-E204-49E2-8A13-EB4EEB58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C66-38B9-4CBD-9BE5-A44555D9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CCD-2568-4BCD-B04A-826FFD33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915-13F5-4950-AE94-6684BA5F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EA2-934F-4E8B-A7EB-C8DBE394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870-0D24-4AA1-8DF8-DCE268FA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38C1-648D-4BBC-BAB4-638CD6A49CE4}" type="slidenum">
              <a:rPr b="0" lang="ru-R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стров Преображения</a:t>
            </a: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6000" y="42926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Corbel"/>
              </a:rPr>
              <a:t>300-летию Преображенской церкви на острове К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Архипова Наталья Анатольевна, зам. начальника  отдела «Детский музейный цент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бобщение темы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651640" y="1873080"/>
            <a:ext cx="3313080" cy="4418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324000" y="1322280"/>
            <a:ext cx="51847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Работа с творческими заданиями 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Путешествие в прошлое» (работа в группах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Дополни текст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 легенде, меня построил …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ез ……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 меня ….главки, покрытые ….    …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Я построена в честь праздника …….   …….., который отмечается   …. августа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Мне уже почти …  лет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Я красива со всех сторон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 меня нет главного …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оворят, что мастер …..  , любуясь мною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казал: «Не было, ….   и …….  такой!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месте с Покровской церковью 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…………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.. мы образуе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единый 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Задания: назови  «формулу Витрувия», построить живую картинау «Преображенская церковь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глашаем к сотрудничеству!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148360" y="2975040"/>
            <a:ext cx="3825720" cy="244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324000" y="1322280"/>
            <a:ext cx="51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Музей-заповедник «Кижи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Детский музейный центр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. Петрозаводск, ул. Федосовой, 15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уратор Летней музейно-этнографической школы на о.Кижи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рхипова Наталья Анатольевна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л.: (8142) 79-98-7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e-mail: arhipova@kizhi.karelia.ru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127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72314"/>
                </a:solidFill>
                <a:latin typeface="Corbel"/>
              </a:rPr>
              <a:t>До встречи на острове Кижи!</a:t>
            </a:r>
            <a:endParaRPr b="0" lang="en-US" sz="3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7488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Цель занятия:</a:t>
            </a:r>
            <a:br>
              <a:rPr sz="3500"/>
            </a:br>
            <a:r>
              <a:rPr b="0" lang="en-US" sz="3500" spc="-1" strike="noStrike">
                <a:solidFill>
                  <a:srgbClr val="572314"/>
                </a:solidFill>
                <a:latin typeface="Corbel"/>
              </a:rPr>
              <a:t>	</a:t>
            </a: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8920" y="1267920"/>
            <a:ext cx="5545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ворческое развитие детей на основе использования  образовательного потенциала музея-заповедника «Киж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:\Фадеева М. В\Для презентаций\Рама 1-2\IMG_6721.JPG"/>
          <p:cNvPicPr/>
          <p:nvPr/>
        </p:nvPicPr>
        <p:blipFill>
          <a:blip r:embed="rId1"/>
          <a:stretch/>
        </p:blipFill>
        <p:spPr>
          <a:xfrm>
            <a:off x="5867280" y="1413000"/>
            <a:ext cx="3097440" cy="52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K:\Фадеева М. В\Для презентаций\06_виды острова 03.06.12\6H8O8389.JPG"/>
          <p:cNvPicPr/>
          <p:nvPr/>
        </p:nvPicPr>
        <p:blipFill>
          <a:blip r:embed="rId2"/>
          <a:stretch/>
        </p:blipFill>
        <p:spPr>
          <a:xfrm>
            <a:off x="395280" y="2637000"/>
            <a:ext cx="5256360" cy="4001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55" name="Picture 2" descr="K:\Фадеева М. В\Для презентаций\06_виды острова 03.06.12\6H8O8385.JPG"/>
          <p:cNvPicPr/>
          <p:nvPr/>
        </p:nvPicPr>
        <p:blipFill>
          <a:blip r:embed="rId1"/>
          <a:stretch/>
        </p:blipFill>
        <p:spPr>
          <a:xfrm>
            <a:off x="5651640" y="1413000"/>
            <a:ext cx="3313080" cy="533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24000" y="1322280"/>
            <a:ext cx="51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дать представление о музее-заповеднике «Кижи» и о его коллекция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знакомить детей с всемирно известными  памятниками деревянного зодчества музея-заповедника «Кижи»,  с уникальным  Кижским  архитектурным  ансамблем, объектом Всемирного наследия ЮНЕСКО, с главным памятником – Преображенской церковью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" name="Picture 6" descr="C:\Users\fadeeva\Desktop\командировка в лулео\для выставки\Kizhi Pogost\The Kizhi Island.JPG"/>
          <p:cNvPicPr/>
          <p:nvPr/>
        </p:nvPicPr>
        <p:blipFill>
          <a:blip r:embed="rId2"/>
          <a:stretch/>
        </p:blipFill>
        <p:spPr>
          <a:xfrm>
            <a:off x="1258920" y="3921120"/>
            <a:ext cx="4141800" cy="283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6983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порные понятия: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9680" y="1873080"/>
            <a:ext cx="3176640" cy="4764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324000" y="132228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амятники деревянного зодчеств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рхитектурный ансамбл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руб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енец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осьмери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руб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лав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ме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1258920" y="4033800"/>
            <a:ext cx="414180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Интерактивные материалы: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24000" y="1322280"/>
            <a:ext cx="518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арта острова, выполненная в технике текстиля (размеры 2х 0,5 м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бразцы спилов сосны, осины, березы, береста, мох, пакл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мех, кованые гвозд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ворческие задани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Методический репертуар занятия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нтерактивная методи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рмы: беседа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гры: ролевые, дидактические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ворческие задания, викторин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" name="Picture 5" descr="C:\Users\arhipova\Desktop\проекты на конкурс ЛУ\85465_80.jpg"/>
          <p:cNvPicPr/>
          <p:nvPr/>
        </p:nvPicPr>
        <p:blipFill>
          <a:blip r:embed="rId1"/>
          <a:stretch/>
        </p:blipFill>
        <p:spPr>
          <a:xfrm>
            <a:off x="4921200" y="1628640"/>
            <a:ext cx="3443400" cy="5010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Кижский архитектурный ансамбль – основа   музея</a:t>
            </a:r>
            <a:endParaRPr b="0" lang="en-US" sz="29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775280" cy="4176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50920" y="11984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дать понятие об ансамбле деревянного зодчества, о памятниках деревянного зодчества, входящих в КА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ния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работа с картой: «установить» памятники, входящие в ансамбль, на карте острова Кижи,  игра «Ансамбль» («Живая картина»), тес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Чудо-остров Кижи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651640" y="1679400"/>
            <a:ext cx="3313080" cy="4805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324000" y="1322280"/>
            <a:ext cx="51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– эмоционально настроить детей на восприятие памятников деревянного зодчества о.Кижи,  дать представление об острове, о музее-заповеднике «Кижи» и  его коллекция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бота с картой остров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каз видеоролика «300 лет Преображенской церкви на о.Кижи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ариант: стихотворения об острове, колокольный звон и т.д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826920" y="4184640"/>
            <a:ext cx="457380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«Светломилостливый Спас Ерусалим»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651640" y="1873080"/>
            <a:ext cx="3313080" cy="4418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324000" y="1322280"/>
            <a:ext cx="518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–познакомить детей с уникальным памятником деревянного зодчества – Преображенской церковью(материалы для строительства, инструменты плотника,  особенности конструкции, страницы «жизни» памятника,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генды, реставраци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ния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 рассмотреть спилы деревьев и определить название дерева и его функцию при строительстве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черный ящик»: на ощупь определить, какие еще материалы использовали для строительства  храмов (береста, мох, пакля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Загадки о плотницких инструмента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ссмотреть лемех и кованые гвозд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Особенности конструкции Преображенского храма</a:t>
            </a:r>
            <a:endParaRPr b="0" lang="en-US" sz="2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24000" y="1322280"/>
            <a:ext cx="5184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познакомить детей с плотницким ремеслом, раскрыть понятие «безгвоздевая конструкция», раскрыть основные особенности конструкции Преображенской церкви: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тип конструкции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круглая о двадцатистенном окладе».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Особенности храма: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ирамидальность, всефасадность (почему?), центричность, многоглави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генды о Преображенской церкв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истема водозащит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нятие о реставрации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ние: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ворческое задание «Подкова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(артель мастера Нестора)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Собери амбар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каз фрагмента фильма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«Кижи в узоре времен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331128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1:00:57Z</dcterms:created>
  <dc:creator>Павел Шилов</dc:creator>
  <dc:description/>
  <dc:language>en-US</dc:language>
  <cp:lastModifiedBy>Наталья Архипова</cp:lastModifiedBy>
  <dcterms:modified xsi:type="dcterms:W3CDTF">2014-05-14T10:59:24Z</dcterms:modified>
  <cp:revision>103</cp:revision>
  <dc:subject/>
  <dc:title>Презентация PowerPoint</dc:title>
</cp:coreProperties>
</file>